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4F0-9672-46EB-B85D-F6317DED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7DC-7BDE-477F-91B8-B05D3B52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067-6852-4631-89CD-FAA34F55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23C-61E3-4601-8502-CA39860F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42B-AC99-4D2F-87F1-6E9955A9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EEBF-A504-4871-89F7-8717DCB9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E16B-2D2B-43D2-A30F-0BF85D00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71C1-448B-4C3E-8782-4025664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4CA6-5CA0-4F2B-AB19-77A8D879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5773-B0F3-4F5B-8782-79149C38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2760-51FE-4F3A-8FDF-502DFD6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FAD-BA5E-46DA-A1B3-298DE77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4AD-0E9C-493E-A6D0-712278D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DDA-2A9F-4F67-B404-9B7F2EC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4E22-9C56-40E5-A15B-9B2652A8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2F8-9CA6-4250-B366-0EFC4DA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BE0-999A-4F98-BC07-2067AFB4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70E-1744-462A-9495-3ADA21D5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181-F6AD-4957-9D7C-2D32C31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3B3-2857-4CAB-A9D2-3FA07F34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DBC-4FE0-4418-B077-32BFDA0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056-898A-4683-8CDA-52BBE02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094-1F39-42B1-923E-AB537730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598-3B46-43A1-91BB-5EB6764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C252-9E74-4249-B190-70F93075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C7FA-E2F6-4A8E-AF8C-6F67AA83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Fahim Zibran</cp:lastModifiedBy>
  <dcterms:modified xsi:type="dcterms:W3CDTF">2009-01-19T04:08:26Z</dcterms:modified>
  <cp:revision>16</cp:revision>
  <dc:subject/>
  <dc:title>CPSC 203 Tutorial Section: T32</dc:title>
</cp:coreProperties>
</file>